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79A-57D5-426E-A471-DBA38E7E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D0D3-1BFA-487D-9279-58619529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399-E9D4-4978-B710-898342F5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816-9C31-484A-B995-4998DB47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4E3-D6D7-43F6-88E0-BC338F6A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A04-622B-47AD-A46E-707A0EF8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3699-AEC3-400E-9917-32BBD673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037-0CE8-4708-853F-811BF4FD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956-97F1-44C3-B9EF-93B6D0B9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76C-220E-4103-B8C9-6DE23E9D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E5C5-8DE3-42ED-A1EA-A6FB42F7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B724-130A-4C37-BEF3-218A404F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69EE-8E82-40A3-9621-4571B8388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orers Name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55627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00040" y="761760"/>
            <a:ext cx="3048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and Suppor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tination/Route and Hard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tination/Route and Hard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5440" y="4114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6:51:42Z</dcterms:created>
  <dc:creator>Lupin Hill</dc:creator>
  <dc:description/>
  <dc:language>en-US</dc:language>
  <cp:lastModifiedBy>Lupin Hill</cp:lastModifiedBy>
  <dcterms:modified xsi:type="dcterms:W3CDTF">2010-11-10T16:51:54Z</dcterms:modified>
  <cp:revision>1</cp:revision>
  <dc:subject/>
  <dc:title>Explorers Name Here</dc:title>
</cp:coreProperties>
</file>